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519-0E5F-4067-B690-6366133A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428-6631-4351-921F-DD02D65F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60C-73D0-415B-AB4D-B6D53D69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309-5B37-4235-A6A2-B88C1172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210D-AA64-42F3-B151-43C48CB0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5AAC-149F-4554-82D0-430B6C38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B3A1-EBE7-4DE7-8B9E-5D954180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7359-3A40-488D-AF75-35BFDCA5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F536-333B-4DE0-99C7-A5622510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353A-2037-4B79-A3FB-6F040E73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084E-BC93-4F31-9F47-A84F9BA6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FEE-D6B0-4E8F-A2C0-E2619800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DF16-6BA7-4BD0-B7CB-398EB5BB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7063-D470-49A7-BA92-F3CE186C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9C55-A8D1-4D96-BBDD-C6CAE1A7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BACE-42E9-4D40-B2CD-268F6EC1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1FC4-6451-4C0A-A5E4-76EAA5C4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D72-6F8B-425B-B3F4-3EC0E9AF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E77-29E5-46C4-B9E7-CA449723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AD0-602F-404D-834E-F43E7AF0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216-BBC3-4A57-8FBA-83FB875C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068-B188-48A7-A07A-7B90A38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75C-5BC2-40B9-9350-9BDE8721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5D8-7492-4685-802E-AB1229D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32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1BF9-78F9-4F98-9583-9DD61F7128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C529-7525-4A10-A730-F844349E0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1027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28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1029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1030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31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032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33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39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7413-BAA2-4D67-9C72-9B9FE30E389D}" type="datetime">
              <a:rPr b="0" lang="en-US" sz="1400" spc="-1" strike="noStrike">
                <a:solidFill>
                  <a:srgbClr val="1c1c1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6F06-AA57-4E09-AB3C-72D409618988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20570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ti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220760" y="106668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5800" y="2666880"/>
            <a:ext cx="75438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tomic nuclei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they have about the same number of protons and neutr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nuclei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s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o 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o f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utr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373040" y="106668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09480" y="220968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rue for heavier elements such 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ran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luton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33520" y="34290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se nuclei, repulsion builds up.  The nucleus must release a particle to become sta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33520" y="518148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ease of nuclear particles and energy is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adioactive dec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220760" y="114300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09480" y="22860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articles that are ejected from a nucleus include protons,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om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nucleus chan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85800" y="38098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en this happens, one element changes into another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85800" y="50292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nging of one element into another through radioactive decay is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ansmu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553080" y="228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hand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20040" y="106668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20574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els a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pha particl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2 protons &amp; 2 neutrons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no long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" descr="im56"/>
          <p:cNvPicPr/>
          <p:nvPr/>
        </p:nvPicPr>
        <p:blipFill>
          <a:blip r:embed="rId1"/>
          <a:stretch/>
        </p:blipFill>
        <p:spPr>
          <a:xfrm>
            <a:off x="1066680" y="3657600"/>
            <a:ext cx="71629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220040" y="114300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9480" y="2209680"/>
            <a:ext cx="7696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transmutation, it becomes the element that has 93 proton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ptun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7" descr="im56"/>
          <p:cNvPicPr/>
          <p:nvPr/>
        </p:nvPicPr>
        <p:blipFill>
          <a:blip r:embed="rId1"/>
          <a:stretch/>
        </p:blipFill>
        <p:spPr>
          <a:xfrm>
            <a:off x="990720" y="3505320"/>
            <a:ext cx="71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296000" y="106668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" y="20574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at the mass and atomic number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ptun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alpha particle add up to the mass and atomic number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10" descr="im56"/>
          <p:cNvPicPr/>
          <p:nvPr/>
        </p:nvPicPr>
        <p:blipFill>
          <a:blip r:embed="rId1"/>
          <a:stretch/>
        </p:blipFill>
        <p:spPr>
          <a:xfrm>
            <a:off x="990720" y="3733920"/>
            <a:ext cx="71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296360" y="1143000"/>
            <a:ext cx="289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85800" y="26668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of decay of a nucleus is measured by i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ALF-LIF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62120" y="42670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lf-lif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radioactive isotope is the amount of time it takes for half of a sample of the element to dec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221480" y="1066680"/>
            <a:ext cx="5664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ing Half-Life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920" y="2057400"/>
            <a:ext cx="7772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-131 has a half-life of eight day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1" descr="im62"/>
          <p:cNvPicPr/>
          <p:nvPr/>
        </p:nvPicPr>
        <p:blipFill>
          <a:blip r:embed="rId1"/>
          <a:stretch/>
        </p:blipFill>
        <p:spPr>
          <a:xfrm>
            <a:off x="3276720" y="2590920"/>
            <a:ext cx="5562360" cy="3160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28600" y="3200400"/>
            <a:ext cx="30481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tart with a sample of 4 g of iodine-131, after eight days you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8320" y="5791320"/>
            <a:ext cx="65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only 2 g of iodine-131 rem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53080" y="228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of hand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221480" y="1066680"/>
            <a:ext cx="5664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ing Half-Life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85800" y="236232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dioactive decay of unstable atoms goes on at a steady pace, unaffected by conditions such as weather, pressure, magnetic or electric fields, and even chemical rea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296360" y="990720"/>
            <a:ext cx="4258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entifying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62120" y="2133720"/>
            <a:ext cx="761976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oms of different elements contain different numbers of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85800" y="3200400"/>
            <a:ext cx="76201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 is the number of pro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s of an element are identified by the number of protons because this number never changes without changing the identity of the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6360" y="114300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09480" y="198108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-14 is used to determine the age of dead animals, plants, and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09480" y="3127320"/>
            <a:ext cx="7543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living organism, the amount of carbon-14 remains in constant balance with the levels of the isotope in the atmosphere or oce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09480" y="5146560"/>
            <a:ext cx="7925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balance occurs because living organisms take in and release carb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296360" y="114300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1905120"/>
            <a:ext cx="48006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chaeologists find an ancient item, they can find out how much carbon-14 it has and compare it with the amount of carbon-14 the animal would have had when it was ali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3520" y="541008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ing the half-life of carbon-14, they can then calculate when the animal liv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" descr="im65"/>
          <p:cNvPicPr/>
          <p:nvPr/>
        </p:nvPicPr>
        <p:blipFill>
          <a:blip r:embed="rId1"/>
          <a:stretch/>
        </p:blipFill>
        <p:spPr>
          <a:xfrm>
            <a:off x="5486400" y="2133720"/>
            <a:ext cx="33908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96360" y="106668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22096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geologists want to determine the age of rocks, they cannot use carbon da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09480" y="3219480"/>
            <a:ext cx="7696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, geologists examine the deca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ran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609480" y="4232160"/>
            <a:ext cx="7925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ranium-23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ays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ad-20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a half-life of 4.5 billion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373400" y="1066680"/>
            <a:ext cx="556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ing Synthetic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09480" y="2057400"/>
            <a:ext cx="7925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now create new elements by smashing atomic particles into a target element, thereby increasing the atomic numb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85800" y="3844800"/>
            <a:ext cx="792468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element is called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NTH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 it is made by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with atomic numbers 93 and higher have been made in this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296000" y="106668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2666880"/>
            <a:ext cx="762012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cular type of atom can have a varying number of neutrons in its nucl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toms of carbon have six neutro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have seven neutrons and some have 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594240" y="0"/>
            <a:ext cx="1888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20040" y="11430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5800" y="2514600"/>
            <a:ext cx="762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toms are carbon atoms because they all have six prot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3" descr="im46"/>
          <p:cNvPicPr/>
          <p:nvPr/>
        </p:nvPicPr>
        <p:blipFill>
          <a:blip r:embed="rId1"/>
          <a:stretch/>
        </p:blipFill>
        <p:spPr>
          <a:xfrm>
            <a:off x="1066680" y="3657600"/>
            <a:ext cx="70106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296000" y="11430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80880" y="2057400"/>
            <a:ext cx="8534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hree kinds of carbon atoms are called isotopes.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toms of the same element that have different number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UTR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" descr="im46"/>
          <p:cNvPicPr/>
          <p:nvPr/>
        </p:nvPicPr>
        <p:blipFill>
          <a:blip r:embed="rId1"/>
          <a:stretch/>
        </p:blipFill>
        <p:spPr>
          <a:xfrm>
            <a:off x="1143000" y="3886200"/>
            <a:ext cx="70102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372680" y="1066680"/>
            <a:ext cx="293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38080" y="20574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om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isotope is the number of neutrons plus prot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im48"/>
          <p:cNvPicPr/>
          <p:nvPr/>
        </p:nvPicPr>
        <p:blipFill>
          <a:blip r:embed="rId1"/>
          <a:stretch/>
        </p:blipFill>
        <p:spPr>
          <a:xfrm>
            <a:off x="1676520" y="3276720"/>
            <a:ext cx="59371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372680" y="1066680"/>
            <a:ext cx="293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19810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find the number of neutrons in an isotope by subtracting the atomic number from the mass numb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im48"/>
          <p:cNvPicPr/>
          <p:nvPr/>
        </p:nvPicPr>
        <p:blipFill>
          <a:blip r:embed="rId1"/>
          <a:stretch/>
        </p:blipFill>
        <p:spPr>
          <a:xfrm>
            <a:off x="1600200" y="3352680"/>
            <a:ext cx="59371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221480" y="1066680"/>
            <a:ext cx="439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ong Nuclear Fo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362320"/>
            <a:ext cx="716292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protons are positively charged, the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y tend to rep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other just as the north ends of two magnets tend to push each other apa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when they are packed together in the nucleus with the neutrons, an even stronge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nding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s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70572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gin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7440" y="1066680"/>
            <a:ext cx="439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ong Nuclear Fo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1488960"/>
            <a:ext cx="7772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2120" y="2743200"/>
            <a:ext cx="803916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force is called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rong nuclear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rong nuclear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hold the protons together only when they are as closely packed as they are in the nucleus of the at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81040" y="37296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31:13Z</dcterms:created>
  <dc:creator>Cherie Hatton</dc:creator>
  <dc:description/>
  <dc:language>en-US</dc:language>
  <cp:lastModifiedBy>St. Aloysius</cp:lastModifiedBy>
  <cp:lastPrinted>2011-10-06T14:13:20Z</cp:lastPrinted>
  <dcterms:modified xsi:type="dcterms:W3CDTF">2012-10-19T17:17:07Z</dcterms:modified>
  <cp:revision>412</cp:revision>
  <dc:subject/>
  <dc:title>Slide 1</dc:title>
</cp:coreProperties>
</file>